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1BE0-832E-4738-B665-5501B9FE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C6A7-264D-43B9-9C3C-D57FBE7C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3085-DEA4-4DE7-BE29-2DD06FA5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AC4D-BB01-49E4-BDFF-176B797B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9B6A-EA64-4724-9CA2-0E64D9DC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F5E3-9143-445F-8A20-9DD716E5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1430-7E08-4315-8A94-B6C4620E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8367-D551-4867-BDD8-A58DCCC7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5B0B-5C28-417A-B977-2B80F599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EFE4-6842-4912-9F36-A6AE7C87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6162-CE0B-4F1A-A87E-84B64AFB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085F-CD94-4819-99DD-1A860501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BB88-5636-4C5D-9485-6775375D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186E-3319-4B73-980E-230E6712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2ECC-7251-4DD1-BE18-1957EFB4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D36C-BBDC-4C99-81BF-AB194CA1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63BD-7F74-4C97-B85B-AC73797A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A7CE1-5D96-4323-9F76-4AB22B7D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C0243-4719-48E0-9BC7-78CAB846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5F2FA-8197-4629-81E2-DBCBC2D6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B3998-DFB4-4700-B7EB-F721BE6D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3C805-BB48-4139-9098-20CA166F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FC71-18D9-4F71-AC0B-84752F9A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C1C48-39C0-413F-9E14-5688BCD3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5796B-000C-4D4C-A7C2-33B281A3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94BF4-E203-4B0B-8A2D-E2A049AD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7AC0C-1570-488A-ABE6-6D857AA9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639CE-284F-4105-94DE-ED36C522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4B7BA-B231-4E62-9711-CD456FE3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7B320-2D52-4AF7-B313-160AF0A2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2192E-8401-4F5C-955A-14F26BA1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576D3-407C-409A-87D1-8F75897F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68A8E-08D9-4A62-AD89-72497AE2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D2A-1D9C-407A-B5ED-112EE351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8A453-A9CB-4E73-911A-6A889AEC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115E8-EE1D-4D56-B72A-27292D75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3F70C-A9C3-4E9E-8944-6DE15A31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39644-8E37-4871-B8EE-1623E6F9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5EAE2-D7B3-4E20-AB78-FEB72488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64222-CAB6-4C0C-B7C1-7AAC25F9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4DEB4-55B8-4A52-95A6-6332B12A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0F67C-B322-4437-AE0E-27C20908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E0A1A-5EA7-4B32-96AD-E46ADB22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D2781-B019-4B93-9F4A-7F618A61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64EE-DC8B-430C-B17D-4DB3BA71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6B6A3-0EF2-4D01-AD89-CC9533A4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2FF93-CF4F-436A-847C-4A729770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E2641-DE32-4EB2-B7DC-706A9953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DF7A0-570A-4FB4-89B7-30B3F81C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527EA-09AA-45BE-8FE6-3BB74301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AEBEA-AA0A-46F2-98C9-9615DEF4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728BA-046D-4D3E-AC23-7DEB1A03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49E2B-FE68-4F1B-9996-9A8AB136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1CC6E-C124-4399-8E9A-A8D50F05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54126-BA95-41FC-8C97-10312AFF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7F05-5AC6-4692-AA43-8C2F80D4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F7504-D325-4AE6-9380-90B3CEE6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FAD1C-23AB-4006-A39D-B16798E4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A157C-91FE-4D14-A2E4-96B947F6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B055A-CEF3-424B-99B6-2AB1AA0E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675B4-5AAF-4B91-AD86-951BFECA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2DC63-6B33-4FFD-8B82-0476D1D6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101C2-182A-446B-849D-38A20611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A079B-86A2-4F61-A72B-013D9BE8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A7EAD-D82F-4D04-88A9-F9E9224C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0E813-6B93-402C-BDE8-10098304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3544-5F53-4F0D-999D-F8C90F9C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F3596-A420-4CBC-BF95-F9946409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102B2-E82F-4189-A939-5E977571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0DF9C-4C15-4C4C-980E-971754B5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81483-E336-4902-B08B-743EECCC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6A3BF-D4E5-48E3-8521-D964508F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74A5C-07C6-447C-BE79-1DAEF095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B34AE-BC53-4F7A-B728-CBC74C81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1942C-3521-4C63-B43E-F4994C90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D3D67-F2FE-4A6E-84CF-5E00AA65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B1A73-3AD1-4A29-8D09-C28306EA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7769-4A77-4EF8-9560-EC401299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3F34A-6ED7-4989-A36A-F689D23B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EAFAB-EABB-4E38-973C-8C69730C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DABC7-3879-40EF-9FF7-E6A7ECA0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9D3D5-36FC-4DD1-B3D2-E052140E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BB2C7-9844-45C5-8B52-BE64C893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76ABF-FBFD-4C18-B6DE-44980CBF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1C50C-56AD-430F-99AD-28854DCF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D11D0-944B-4CF2-B391-020530BF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C5F7A-414B-47FC-8B84-53CB9F45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19CE5-F976-4800-A4AA-D6454B39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933C-2067-443C-A8ED-8A2146B0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BFEEA-2C14-48EB-B3FC-C1374AA1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40EF0-31FF-43BA-BDF1-143A2113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21A7D-5B0A-4324-BCDF-BD4D0375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F6632-930E-449A-8E81-15D38BB8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C022F-7CA4-4D1C-A5D0-E24D99AA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5B6C2-E210-4B13-A732-CA979F15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FA234-842C-4F89-A20E-D2DDA2AB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58CC-9D14-402B-95CD-0CCCEC3347C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D79B-62F8-4662-A023-5D78B0CCBD2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B14C-D159-458D-84ED-5F37E615050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9467-5A7A-4CE1-B8B7-90BE6CA0E6F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12AE-0441-4D95-AC13-49AC3CF248A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D9C8-40A2-4B18-A54E-E03C140E46D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350A-920A-4CF1-8ADD-8BB005DED3B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56FB-455F-4455-A4AC-A82EA2362DF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nd your BOSS card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(make one if absent from Seminar 4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t in pairs – your preference for partn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t your BOSS name card in front of you w/ THE BOSS facing the projection scre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sessment: time to follow directions correct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Respect for other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Looking at resume characteristics – not sharing nam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Learning experienc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you do not know” these people – do not be influenced by the names on resum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You are THE BOSS, this is YOUR business, YOUR success, YOUR income, YOUR family depend upon good decisions about who works for you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ssume these potential employees have the necessary specialty knowledge and skills for your job opening – looking at “soft skills” &amp; intangibl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3 per folder; one minute to view all three, then you will pass the folder 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GOAL: impact of the resum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Remember “safety of Seminar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haracteristics of the resume layou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Visual impac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Quality of the informat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What do you notice, what message does it send?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Make note of your “first impression”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nside of “BOSS” tent = resume characteristic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Good/incorporate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- Poor/avoid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6840" y="1444680"/>
            <a:ext cx="40402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rustworth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Determination/Perseveranc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ime manage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sponsib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ard work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llows direc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unctu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spectfu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tellig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ulti-task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nes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44720" y="1444680"/>
            <a:ext cx="404172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sciplin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rganiz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thusiasti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eople skills/mann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eadership abil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ea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tivat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spect author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oyal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cus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istens wel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oblem solving skill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1:32:56Z</dcterms:created>
  <dc:creator>bguenther</dc:creator>
  <dc:description/>
  <dc:language>en-US</dc:language>
  <cp:lastModifiedBy>bguenther</cp:lastModifiedBy>
  <dcterms:modified xsi:type="dcterms:W3CDTF">2009-11-02T13:47:27Z</dcterms:modified>
  <cp:revision>14</cp:revision>
  <dc:subject/>
  <dc:title>Challenge – Session #4</dc:title>
</cp:coreProperties>
</file>